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281-5864-4796-B111-53E8440B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3228-6802-4713-9AAE-F6A1A209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613-7C92-4D9C-A76D-225ED8B7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214-4881-451F-8734-F9907AA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C36-E794-43E1-8D3C-003ADA7E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A4A-150C-49F4-A203-777D21B7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E22-5CB0-4C16-890F-8B9FFF90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32B-0E5B-4C85-B886-A4E3E67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9D2-AAA8-4C8C-A292-83B0696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9D1-901E-414F-ACC0-E48CEA5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DF5-38F4-4B5E-87C9-332CA6A7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EFD-A876-4494-835E-951068D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1BA-835A-4A01-AD14-81529CD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84A-4700-45C1-B643-7766A53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A27-933B-4818-9E62-7295FEAD0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Y HERNAND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Documents and Settings\ISLPT012\Local Settings\Temporary Internet Files\Content.IE5\QSFVSSJZ\MC900018796[1].wmf"/>
          <p:cNvPicPr/>
          <p:nvPr/>
        </p:nvPicPr>
        <p:blipFill>
          <a:blip r:embed="rId1"/>
          <a:stretch/>
        </p:blipFill>
        <p:spPr>
          <a:xfrm>
            <a:off x="5867280" y="1295280"/>
            <a:ext cx="166536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ISLPT012\Local Settings\Temporary Internet Files\Content.IE5\A2CO1HDT\MC900129137[1].wmf"/>
          <p:cNvPicPr/>
          <p:nvPr/>
        </p:nvPicPr>
        <p:blipFill>
          <a:blip r:embed="rId2"/>
          <a:stretch/>
        </p:blipFill>
        <p:spPr>
          <a:xfrm>
            <a:off x="457200" y="2362320"/>
            <a:ext cx="4670280" cy="39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ISLPT012\Local Settings\Temporary Internet Files\Content.IE5\SKSTG7QT\MC900054475[1].wmf"/>
          <p:cNvPicPr/>
          <p:nvPr/>
        </p:nvPicPr>
        <p:blipFill>
          <a:blip r:embed="rId3"/>
          <a:stretch/>
        </p:blipFill>
        <p:spPr>
          <a:xfrm>
            <a:off x="5715000" y="3276720"/>
            <a:ext cx="27432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 of prayer and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2560" y="-504720"/>
            <a:ext cx="15523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http://t0.gstatic.com/images?q=tbn:ANd9GcSjMISXEUV4rNcbGKE4MsD18sKspP5KUSvLgeKDxOPXXz7eAFKyCw"/>
          <p:cNvPicPr/>
          <p:nvPr/>
        </p:nvPicPr>
        <p:blipFill>
          <a:blip r:embed="rId1"/>
          <a:stretch/>
        </p:blipFill>
        <p:spPr>
          <a:xfrm>
            <a:off x="2438280" y="1523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,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3.gstatic.com/images?q=tbn:ANd9GcQ1qeQbMHdkaiBrOtTOOYouePHaDNb6d_lNttB0zLcf4eFm0WWC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burlap bag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0.gstatic.com/images?q=tbn:ANd9GcSgKK_dNELqt6IG5_nmhLiWiGpo7on0MNb_NVkmxpu_S1gw6gZh"/>
          <p:cNvPicPr/>
          <p:nvPr/>
        </p:nvPicPr>
        <p:blipFill>
          <a:blip r:embed="rId1"/>
          <a:stretch/>
        </p:blipFill>
        <p:spPr>
          <a:xfrm>
            <a:off x="609480" y="144792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t0.gstatic.com/images?q=tbn:ANd9GcQS2GIafo43WiI1yOkneW_c9IfdDJs_XHuI-wvKTbIMtUh8gVZi"/>
          <p:cNvPicPr/>
          <p:nvPr/>
        </p:nvPicPr>
        <p:blipFill>
          <a:blip r:embed="rId2"/>
          <a:stretch/>
        </p:blipFill>
        <p:spPr>
          <a:xfrm>
            <a:off x="5486400" y="1676520"/>
            <a:ext cx="23623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t3.gstatic.com/images?q=tbn:ANd9GcSRVnd7Ruai4TF6nuDBK8dNd3q4VQCTAei2PFyaHVO9C8YN9PUY"/>
          <p:cNvPicPr/>
          <p:nvPr/>
        </p:nvPicPr>
        <p:blipFill>
          <a:blip r:embed="rId1"/>
          <a:stretch/>
        </p:blipFill>
        <p:spPr>
          <a:xfrm>
            <a:off x="2209680" y="1828800"/>
            <a:ext cx="50292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t3.gstatic.com/images?q=tbn:ANd9GcTRFvAlolGH1CXoAWNenubMUqcm98m5haJkujXfMoUyzWiVbz_Y4A"/>
          <p:cNvPicPr/>
          <p:nvPr/>
        </p:nvPicPr>
        <p:blipFill>
          <a:blip r:embed="rId1"/>
          <a:stretch/>
        </p:blipFill>
        <p:spPr>
          <a:xfrm>
            <a:off x="2438280" y="1523880"/>
            <a:ext cx="41911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-birth of a person’s soul in a new body after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t2.gstatic.com/images?q=tbn:ANd9GcQVzhkLBMmE94xj7_WlNqqG-gDpLlaqf8LU0htN_KJ_w30KMaGMGw"/>
          <p:cNvPicPr/>
          <p:nvPr/>
        </p:nvPicPr>
        <p:blipFill>
          <a:blip r:embed="rId1"/>
          <a:stretch/>
        </p:blipFill>
        <p:spPr>
          <a:xfrm>
            <a:off x="3048120" y="1752480"/>
            <a:ext cx="32004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http://t0.gstatic.com/images?q=tbn:ANd9GcQBpakseuvjekd3t7RI1WDLnOUPEnrqdUtb8_P6inRmA2R57Xj1QQ"/>
          <p:cNvPicPr/>
          <p:nvPr/>
        </p:nvPicPr>
        <p:blipFill>
          <a:blip r:embed="rId1"/>
          <a:stretch/>
        </p:blipFill>
        <p:spPr>
          <a:xfrm>
            <a:off x="2057400" y="1676520"/>
            <a:ext cx="5487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will kill crops-destroying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0.gstatic.com/images?q=tbn:ANd9GcSTPVe6MfqyjgyovDdxB0ohX5MDRcJIFCEJ73VRuKfhGFqe_Wc2"/>
          <p:cNvPicPr/>
          <p:nvPr/>
        </p:nvPicPr>
        <p:blipFill>
          <a:blip r:embed="rId1"/>
          <a:stretch/>
        </p:blipFill>
        <p:spPr>
          <a:xfrm>
            <a:off x="2209680" y="1600200"/>
            <a:ext cx="4953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3:55:47Z</dcterms:modified>
  <cp:revision>9</cp:revision>
  <dc:subject/>
  <dc:title>Chapter 5 – India Vocabulary</dc:title>
</cp:coreProperties>
</file>